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51436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5293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293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529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5293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5293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529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5293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52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52937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52937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529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52937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52937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529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52937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529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29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52937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529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29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57240" y="2541600"/>
            <a:ext cx="707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3200" spc="-1" strike="noStrike">
                <a:solidFill>
                  <a:srgbClr val="5db3db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5db3db"/>
                </a:solidFill>
                <a:latin typeface="Arial"/>
              </a:rPr>
              <a:t>Secondary Tertiary Pathway’s</a:t>
            </a: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681480" y="4060800"/>
            <a:ext cx="76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5db3db"/>
                </a:solidFill>
                <a:latin typeface="Calibri"/>
              </a:rPr>
              <a:t>Strengthening the links between Secondary and Tertiary Education in Taranaki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06280" y="380880"/>
            <a:ext cx="85010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STP Future Focus</a:t>
            </a:r>
            <a:endParaRPr b="0" lang="en-US" sz="32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6280" y="1319040"/>
            <a:ext cx="85010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</a:rPr>
              <a:t>Growth focus areas in next 18 months: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Dual Pathways, EE2E and 3+2  all new in 2017 reviewing for 2018 delivery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STP development around construction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91640" y="209520"/>
            <a:ext cx="79153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66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66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1640" y="1319040"/>
            <a:ext cx="7915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</a:rPr>
              <a:t>76 Students enrolled over 6 disciplines.  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</a:rPr>
              <a:t>Attending 15-20 hour courses in a variety of formats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Automotive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Welding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arista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usiness Administration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Hairdressing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eauty Therapy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91640" y="380880"/>
            <a:ext cx="79153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6600" spc="-1" strike="noStrike">
                <a:solidFill>
                  <a:srgbClr val="ffffff"/>
                </a:solidFill>
                <a:latin typeface="Arial"/>
              </a:rPr>
              <a:t>Trades Academy</a:t>
            </a:r>
            <a:endParaRPr b="0" lang="en-US" sz="6600" spc="-1" strike="noStrike">
              <a:solidFill>
                <a:srgbClr val="152937"/>
              </a:solidFill>
              <a:latin typeface="Arial"/>
            </a:endParaRPr>
          </a:p>
        </p:txBody>
      </p:sp>
      <p:pic>
        <p:nvPicPr>
          <p:cNvPr id="117" name="Text Placeholder 4" descr=""/>
          <p:cNvPicPr/>
          <p:nvPr/>
        </p:nvPicPr>
        <p:blipFill>
          <a:blip r:embed="rId1"/>
          <a:stretch/>
        </p:blipFill>
        <p:spPr>
          <a:xfrm>
            <a:off x="755640" y="2505240"/>
            <a:ext cx="8150400" cy="2219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792000" y="1415880"/>
            <a:ext cx="83091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</a:rPr>
              <a:t>170 Students enrolled over 11 disciplines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</a:rPr>
              <a:t>Students attend WITT 1 day per week in Terms 1, 2 &amp; 3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5240" y="103320"/>
            <a:ext cx="4317840" cy="23716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668840" y="103320"/>
            <a:ext cx="4336920" cy="23716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165240" y="2633760"/>
            <a:ext cx="4317840" cy="23716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22" name="TextBox 6"/>
          <p:cNvSpPr/>
          <p:nvPr/>
        </p:nvSpPr>
        <p:spPr>
          <a:xfrm>
            <a:off x="5029200" y="2971800"/>
            <a:ext cx="25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Year 12 Trades Academy Electrical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IMG_8112"/>
          <p:cNvPicPr/>
          <p:nvPr/>
        </p:nvPicPr>
        <p:blipFill>
          <a:blip r:embed="rId1"/>
          <a:stretch/>
        </p:blipFill>
        <p:spPr>
          <a:xfrm>
            <a:off x="322200" y="2467080"/>
            <a:ext cx="5600880" cy="2585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4" name="Picture 4" descr="IMG_7825"/>
          <p:cNvPicPr/>
          <p:nvPr/>
        </p:nvPicPr>
        <p:blipFill>
          <a:blip r:embed="rId2"/>
          <a:stretch/>
        </p:blipFill>
        <p:spPr>
          <a:xfrm>
            <a:off x="4665600" y="84240"/>
            <a:ext cx="4210200" cy="2212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5" name="Picture 5" descr="IMG_1807"/>
          <p:cNvPicPr/>
          <p:nvPr/>
        </p:nvPicPr>
        <p:blipFill>
          <a:blip r:embed="rId3"/>
          <a:stretch/>
        </p:blipFill>
        <p:spPr>
          <a:xfrm>
            <a:off x="322200" y="84240"/>
            <a:ext cx="4175280" cy="2212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6" name="TextBox 6"/>
          <p:cNvSpPr/>
          <p:nvPr/>
        </p:nvSpPr>
        <p:spPr>
          <a:xfrm>
            <a:off x="6107040" y="274968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Build a Bach: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Partnership between Taranaki Futures and WITT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91640" y="380880"/>
            <a:ext cx="79153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6600" spc="-1" strike="noStrike">
                <a:solidFill>
                  <a:srgbClr val="ffffff"/>
                </a:solidFill>
                <a:latin typeface="Arial"/>
              </a:rPr>
              <a:t>3 + 2 = Graduates</a:t>
            </a:r>
            <a:endParaRPr b="0" lang="en-US" sz="66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1360" y="2859120"/>
            <a:ext cx="813744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NZ Certificate in Fitness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NZ Certificate in Digital Media And Design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NZ Certificate in Food and Beverage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41360" y="1547640"/>
            <a:ext cx="826596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53 Students enrolled over 3 disciplines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Students study towards completing a Level 3 qualification and gaining  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credits towards NCEA L3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Students attend WITT 2 days a week in Terms 1, 2 &amp; 3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V:\2017\Hawera campus.jpg"/>
          <p:cNvPicPr/>
          <p:nvPr/>
        </p:nvPicPr>
        <p:blipFill>
          <a:blip r:embed="rId1"/>
          <a:stretch/>
        </p:blipFill>
        <p:spPr>
          <a:xfrm>
            <a:off x="162000" y="114480"/>
            <a:ext cx="4413240" cy="23126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1" name="Picture 3" descr="V:\2017\Hawera Students.jpg"/>
          <p:cNvPicPr/>
          <p:nvPr/>
        </p:nvPicPr>
        <p:blipFill>
          <a:blip r:embed="rId2"/>
          <a:stretch/>
        </p:blipFill>
        <p:spPr>
          <a:xfrm>
            <a:off x="4660920" y="114480"/>
            <a:ext cx="4233960" cy="23126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2" name="Picture 4" descr="V:\2017\Study Break.jpg"/>
          <p:cNvPicPr/>
          <p:nvPr/>
        </p:nvPicPr>
        <p:blipFill>
          <a:blip r:embed="rId3"/>
          <a:stretch/>
        </p:blipFill>
        <p:spPr>
          <a:xfrm>
            <a:off x="162000" y="2529000"/>
            <a:ext cx="44132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3" name="TextBox 3"/>
          <p:cNvSpPr/>
          <p:nvPr/>
        </p:nvSpPr>
        <p:spPr>
          <a:xfrm>
            <a:off x="5025960" y="2800440"/>
            <a:ext cx="28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Hawera Campus offers STAR and 3+2 programmes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06280" y="380880"/>
            <a:ext cx="85010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6600" spc="-1" strike="noStrike">
                <a:solidFill>
                  <a:srgbClr val="ffffff"/>
                </a:solidFill>
                <a:latin typeface="Arial"/>
              </a:rPr>
              <a:t>Dual Pathways</a:t>
            </a:r>
            <a:endParaRPr b="0" lang="en-US" sz="66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400" y="2533680"/>
            <a:ext cx="781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ookery 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Hairdressing 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eauty Therapy 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omputing  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806400" y="1380960"/>
            <a:ext cx="796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</a:rPr>
              <a:t>Enrolments open now over 4 disciplines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</a:rPr>
              <a:t>11-14 Level 2, 3 &amp; 4 credits on offer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Students attend a 1 week block course in the 2</a:t>
            </a:r>
            <a:r>
              <a:rPr b="1" i="1" lang="en-NZ" sz="18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, 3</a:t>
            </a:r>
            <a:r>
              <a:rPr b="1" i="1" lang="en-NZ" sz="18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 &amp; 4</a:t>
            </a:r>
            <a:r>
              <a:rPr b="1" i="1" lang="en-NZ" sz="18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 term breaks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06280" y="380880"/>
            <a:ext cx="85010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6600" spc="-1" strike="noStrike">
                <a:solidFill>
                  <a:srgbClr val="ffffff"/>
                </a:solidFill>
                <a:latin typeface="Arial"/>
              </a:rPr>
              <a:t>EE2E</a:t>
            </a:r>
            <a:endParaRPr b="0" lang="en-US" sz="66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1640" y="3055680"/>
            <a:ext cx="791532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Arial"/>
              </a:rPr>
              <a:t>Coming up in this space: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Year 10 school presentations, taster events, information evenings &amp; marketing activities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Year 11 &amp; 12 engineering tasters, industry speakers, industry visits</a:t>
            </a:r>
            <a:endParaRPr b="0" lang="en-US" sz="1800" spc="-1" strike="noStrike">
              <a:solidFill>
                <a:srgbClr val="152937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792000" y="1519200"/>
            <a:ext cx="818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Engineering Education 2 Employment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16 x Year 13 students enrolled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Year 13 students studying towards 1 x paper from the NZ Diploma in Engineering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NZ" sz="1800" spc="-1" strike="noStrike">
                <a:solidFill>
                  <a:srgbClr val="ffffff"/>
                </a:solidFill>
                <a:latin typeface="Calibri"/>
              </a:rPr>
              <a:t>Students attend 3 hours per week for Terms 1, 2 &amp; 3</a:t>
            </a: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5293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1T21:26:44Z</dcterms:created>
  <dc:creator>Elle</dc:creator>
  <dc:description/>
  <dc:language>en-US</dc:language>
  <cp:lastModifiedBy>test</cp:lastModifiedBy>
  <dcterms:modified xsi:type="dcterms:W3CDTF">2017-05-23T04:44:23Z</dcterms:modified>
  <cp:revision>26</cp:revision>
  <dc:subject/>
  <dc:title>PowerPoint Presentation</dc:title>
</cp:coreProperties>
</file>